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272-BCDB-4342-9616-FC232FAB48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t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6E8-740C-467C-90F3-C46D029E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3D6-6418-4626-940C-6FB2F0F2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23C-8752-4D39-87F4-39DDD260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4C2-15BA-4E61-BDCC-BACFCEF9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165-73E3-4434-8F40-2F93913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F78-8AEF-409D-962B-73076F7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D38-EB6C-4940-A003-6EB4F47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167-7083-4097-B58F-8C28CD4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30B-DAC0-454F-94F6-6880A85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042-E511-42F9-AB1C-330CAB21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C2B-87FE-4F3B-AE12-89B5A1A8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B42-F195-4889-9ECB-6649AEDA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966-E194-4CA7-87FD-75EA7179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on vs time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n object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38088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7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8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9"/>
          <p:cNvSpPr/>
          <p:nvPr/>
        </p:nvSpPr>
        <p:spPr>
          <a:xfrm flipV="1">
            <a:off x="350532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0"/>
          <p:cNvSpPr/>
          <p:nvPr/>
        </p:nvSpPr>
        <p:spPr>
          <a:xfrm flipV="1">
            <a:off x="3886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1"/>
          <p:cNvSpPr/>
          <p:nvPr/>
        </p:nvSpPr>
        <p:spPr>
          <a:xfrm flipV="1">
            <a:off x="4419720" y="335232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2"/>
          <p:cNvSpPr/>
          <p:nvPr/>
        </p:nvSpPr>
        <p:spPr>
          <a:xfrm flipV="1">
            <a:off x="48006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3"/>
          <p:cNvSpPr/>
          <p:nvPr/>
        </p:nvSpPr>
        <p:spPr>
          <a:xfrm flipV="1">
            <a:off x="502920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5638680" y="3428640"/>
            <a:ext cx="0" cy="2590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2 to 4  seconds the object is located 6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6"/>
          <p:cNvSpPr/>
          <p:nvPr/>
        </p:nvSpPr>
        <p:spPr>
          <a:xfrm flipH="1">
            <a:off x="1447920" y="3352680"/>
            <a:ext cx="40384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 flipV="1">
            <a:off x="15238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 flipV="1">
            <a:off x="16765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 flipV="1">
            <a:off x="2362320" y="243792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 flipV="1">
            <a:off x="312408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3"/>
          <p:cNvSpPr/>
          <p:nvPr/>
        </p:nvSpPr>
        <p:spPr>
          <a:xfrm flipV="1">
            <a:off x="3505320" y="2514240"/>
            <a:ext cx="0" cy="34290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3276720" y="1447920"/>
            <a:ext cx="6400800" cy="8254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4  seconds the object is not moving at 4 meter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6"/>
          <p:cNvSpPr/>
          <p:nvPr/>
        </p:nvSpPr>
        <p:spPr>
          <a:xfrm flipV="1">
            <a:off x="563868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7"/>
          <p:cNvSpPr/>
          <p:nvPr/>
        </p:nvSpPr>
        <p:spPr>
          <a:xfrm flipV="1">
            <a:off x="6019920" y="3428640"/>
            <a:ext cx="0" cy="259092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8"/>
          <p:cNvSpPr/>
          <p:nvPr/>
        </p:nvSpPr>
        <p:spPr>
          <a:xfrm flipV="1">
            <a:off x="6629400" y="3428640"/>
            <a:ext cx="0" cy="251460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9"/>
          <p:cNvSpPr/>
          <p:nvPr/>
        </p:nvSpPr>
        <p:spPr>
          <a:xfrm>
            <a:off x="7391520" y="2590920"/>
            <a:ext cx="1295280" cy="25333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8 to 10  seconds the object is not moving at 3 meters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0"/>
          <p:cNvSpPr/>
          <p:nvPr/>
        </p:nvSpPr>
        <p:spPr>
          <a:xfrm flipH="1">
            <a:off x="1218960" y="2438280"/>
            <a:ext cx="236196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1"/>
          <p:cNvSpPr/>
          <p:nvPr/>
        </p:nvSpPr>
        <p:spPr>
          <a:xfrm flipH="1">
            <a:off x="1447920" y="3352680"/>
            <a:ext cx="5333760" cy="0"/>
          </a:xfrm>
          <a:prstGeom prst="line">
            <a:avLst/>
          </a:prstGeom>
          <a:ln w="76320">
            <a:solidFill>
              <a:srgbClr val="ff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2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7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8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9"/>
          <p:cNvSpPr/>
          <p:nvPr/>
        </p:nvSpPr>
        <p:spPr>
          <a:xfrm flipV="1">
            <a:off x="4648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0"/>
          <p:cNvSpPr/>
          <p:nvPr/>
        </p:nvSpPr>
        <p:spPr>
          <a:xfrm flipV="1">
            <a:off x="5257800" y="51811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1"/>
          <p:cNvSpPr/>
          <p:nvPr/>
        </p:nvSpPr>
        <p:spPr>
          <a:xfrm flipV="1">
            <a:off x="5791320" y="5181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2"/>
          <p:cNvSpPr/>
          <p:nvPr/>
        </p:nvSpPr>
        <p:spPr>
          <a:xfrm flipV="1">
            <a:off x="6705720" y="51055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3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15 to 25  seconds the object is located -1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4"/>
          <p:cNvSpPr/>
          <p:nvPr/>
        </p:nvSpPr>
        <p:spPr>
          <a:xfrm flipH="1">
            <a:off x="1447560" y="51814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31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2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uld a position- vs- time graph look like of your desk as measured from the chalkboard -for the entire class peri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your graph be similar, different from your classm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219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seconds,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7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9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1"/>
          <p:cNvSpPr/>
          <p:nvPr/>
        </p:nvSpPr>
        <p:spPr>
          <a:xfrm flipV="1">
            <a:off x="251460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2"/>
          <p:cNvSpPr/>
          <p:nvPr/>
        </p:nvSpPr>
        <p:spPr>
          <a:xfrm flipH="1">
            <a:off x="1447560" y="243828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3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>
            <a:off x="1447920" y="2438280"/>
            <a:ext cx="525780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5"/>
          <p:cNvSpPr/>
          <p:nvPr/>
        </p:nvSpPr>
        <p:spPr>
          <a:xfrm>
            <a:off x="4114800" y="281952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8"/>
          <p:cNvSpPr/>
          <p:nvPr/>
        </p:nvSpPr>
        <p:spPr>
          <a:xfrm flipV="1">
            <a:off x="35053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9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0"/>
          <p:cNvSpPr/>
          <p:nvPr/>
        </p:nvSpPr>
        <p:spPr>
          <a:xfrm>
            <a:off x="3429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cribe what the object is doing at 1 second, 2 seconds, 3 seconds et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1523880" y="2438280"/>
            <a:ext cx="518184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5"/>
          <p:cNvSpPr/>
          <p:nvPr/>
        </p:nvSpPr>
        <p:spPr>
          <a:xfrm>
            <a:off x="6629400" y="2209680"/>
            <a:ext cx="2514600" cy="301860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0 to 5  seconds the object is located 4 meters from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8"/>
          <p:cNvSpPr/>
          <p:nvPr/>
        </p:nvSpPr>
        <p:spPr>
          <a:xfrm flipV="1">
            <a:off x="4724280" y="25909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 flipH="1">
            <a:off x="1447560" y="2438280"/>
            <a:ext cx="5257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0"/>
          <p:cNvSpPr/>
          <p:nvPr/>
        </p:nvSpPr>
        <p:spPr>
          <a:xfrm>
            <a:off x="4648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1"/>
          <p:cNvSpPr/>
          <p:nvPr/>
        </p:nvSpPr>
        <p:spPr>
          <a:xfrm flipV="1">
            <a:off x="2438280" y="23623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2"/>
          <p:cNvSpPr/>
          <p:nvPr/>
        </p:nvSpPr>
        <p:spPr>
          <a:xfrm flipV="1">
            <a:off x="144792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3"/>
          <p:cNvSpPr/>
          <p:nvPr/>
        </p:nvSpPr>
        <p:spPr>
          <a:xfrm flipV="1">
            <a:off x="358128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4"/>
          <p:cNvSpPr/>
          <p:nvPr/>
        </p:nvSpPr>
        <p:spPr>
          <a:xfrm flipV="1">
            <a:off x="5638680" y="2437920"/>
            <a:ext cx="0" cy="3581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5"/>
          <p:cNvSpPr/>
          <p:nvPr/>
        </p:nvSpPr>
        <p:spPr>
          <a:xfrm flipV="1">
            <a:off x="6629400" y="251460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6"/>
          <p:cNvSpPr/>
          <p:nvPr/>
        </p:nvSpPr>
        <p:spPr>
          <a:xfrm>
            <a:off x="3505320" y="23623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67"/>
          <p:cNvSpPr/>
          <p:nvPr/>
        </p:nvSpPr>
        <p:spPr>
          <a:xfrm>
            <a:off x="556272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8"/>
          <p:cNvSpPr/>
          <p:nvPr/>
        </p:nvSpPr>
        <p:spPr>
          <a:xfrm>
            <a:off x="65530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69"/>
          <p:cNvSpPr/>
          <p:nvPr/>
        </p:nvSpPr>
        <p:spPr>
          <a:xfrm>
            <a:off x="129528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70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object is staying in the same position for a time interval than it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o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ed by a horizontal line on a position vs tim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whiteboards from 1 to 3 and answer the question about th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905120" y="2362320"/>
            <a:ext cx="457200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t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 When and where is the object at 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457200" y="17524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3"/>
          <p:cNvSpPr/>
          <p:nvPr/>
        </p:nvSpPr>
        <p:spPr>
          <a:xfrm flipV="1">
            <a:off x="1447920" y="3352320"/>
            <a:ext cx="2057400" cy="17528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1"/>
          <p:cNvSpPr/>
          <p:nvPr/>
        </p:nvSpPr>
        <p:spPr>
          <a:xfrm>
            <a:off x="3505320" y="3352680"/>
            <a:ext cx="213336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 flipV="1">
            <a:off x="5638680" y="2514600"/>
            <a:ext cx="990720" cy="8380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7fe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) When and where is the object not mov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447920" y="2438280"/>
            <a:ext cx="220968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6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3657600" y="2438280"/>
            <a:ext cx="1981080" cy="91440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638680" y="3352680"/>
            <a:ext cx="990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d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) When and where is the object sti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47920" y="1600200"/>
          <a:ext cx="5257800" cy="443556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533520" y="32004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380880" y="2286000"/>
            <a:ext cx="10670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457200" y="152388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53"/>
          <p:cNvSpPr/>
          <p:nvPr/>
        </p:nvSpPr>
        <p:spPr>
          <a:xfrm>
            <a:off x="1447920" y="2438280"/>
            <a:ext cx="3124080" cy="26672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304920" y="579132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0"/>
          <p:cNvSpPr/>
          <p:nvPr/>
        </p:nvSpPr>
        <p:spPr>
          <a:xfrm>
            <a:off x="1447920" y="4267080"/>
            <a:ext cx="525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>
            <a:off x="4572000" y="51055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51:27Z</dcterms:created>
  <dc:creator>Home</dc:creator>
  <dc:description/>
  <dc:language>en-US</dc:language>
  <cp:lastModifiedBy>RomaK</cp:lastModifiedBy>
  <dcterms:modified xsi:type="dcterms:W3CDTF">2015-09-03T12:35:15Z</dcterms:modified>
  <cp:revision>14</cp:revision>
  <dc:subject/>
  <dc:title>Slide 1</dc:title>
</cp:coreProperties>
</file>